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B11-F551-4F7B-BE76-1E72A815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16A-2E96-443E-A209-7AFB621D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148-D0E9-422B-A96D-9CD4697D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914-80E7-4168-94B0-5E073FD7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9C9-1F7B-4AF9-B29A-85BD57BB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68F-6DD8-4259-862D-18FF3B67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2F1-7E38-4A0C-A707-FE54A7E5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123-FC4D-49EB-A6A9-0633BBA4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EB5-F239-4193-823C-4BD283B7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B85-C0F9-40DB-B63E-F76E4299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4DE-88FC-44F1-A6AA-606A7C5E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5D0-8102-4B72-8A63-B767BDD0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DBC0AC5B-9D91-4E62-BA01-3A48B7AE510C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esentation Title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sentation subtit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You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Your title,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 for you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topic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topic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E34-4D45-4B3F-B783-ABC479A7FA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EXPReS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= Express Production Real-time e-VLBI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year project, started March 2006, funded by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to create a distributed, large-scale astronomical instrument of continental and inter-continental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: high-speed communication networks operating in real-time and connecting some of the largest and most sensitive radio telescopes on the pl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D62-5CF0-4EF8-8C16-D3BA6A3039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Partn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 Astronomy Instit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int Institute for VLBI in Europe (Coordinator)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cibo Observatory, National Astronomy and Ionosphere Center, Cornell University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stralia Telescope National Facility, a Division of CSIRO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e of Radioastronomy, National Institute for Astrophysics (INAF), 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drell Bank Observatory, University of Manchester, United King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Planck Institute for Radio Astronomy (MPIfR),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sähovi Radio Observatory, Helsinki University of Technology (TKK), Fin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tional Center of Geographical Information, National Geographic Institute (CNIG-IGN), 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tebeesthoek Radio Astronomy Observatory, National Research Foundation, South Af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herlands Foundation for Research in Astronomy (ASTRON), NWO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sala Space Observatory, Chalmers University of Technology, Sw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nghai Astronomical Observatory, Chinese Academy of Sciences, 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run Centre for Astronomy, Nicolaus Copernicus University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able Integrated Geodetic Observatory (TIGO), University of Concepción,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ntspils International Radio Astronomy Center, Ventspils University College, Lat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ional Research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ARNet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NTE, United King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znan Supercomputing and Networking Center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RFnet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A58-D569-4481-AC4E-2723875798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rticipating EXPReS Telescop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496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46A-90B6-4872-AA24-07C175970F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Network Diagra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1068480"/>
            <a:ext cx="7696440" cy="50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450-50E4-4643-9B0D-A0364A29575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tivit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crip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Coordin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 (Interim)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of I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Charles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N-NREN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hevers, 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LBI Science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onway, Chal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utrea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istine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Servi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ad Szomoru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Provisio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isco Colomer, CNIG-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R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4FE-A5DF-4454-A4B8-CC10305A10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r na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r titl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]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4EA-06F2-4063-A2BB-A20F202B81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Kristine Yun</cp:lastModifiedBy>
  <dcterms:modified xsi:type="dcterms:W3CDTF">2008-07-10T09:43:58Z</dcterms:modified>
  <cp:revision>26</cp:revision>
  <dc:subject/>
  <dc:title>Slide 1</dc:title>
</cp:coreProperties>
</file>